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2B1-E592-4EB1-B93A-19CC35C2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over for peace and prosperity because a lot of the Japanese had an unstable hom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over in the 1880s so that they could work on the railroads with the Hawaiians. Japanese can over to the West Coast to cultivate. they grew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C5C-595C-462A-A974-ADBD3708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153-D320-4A82-88EA-D811BABF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5A5-5380-48D1-B7A3-EA0917C0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FF4-7A5F-4291-9AAC-6E7632D5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8F1-309A-4DD9-9439-5F4A95B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167-A14A-43C1-BFD9-379A8AB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12C-9E8F-42C8-B054-D31D6EC4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CDD-6DEF-4C3E-A985-6482C62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54B-6CBB-4141-A6F3-7710E57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1A6-5F8A-480A-BFAD-F57C5CC1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385-512A-43CA-95E1-B335127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257-7981-4B83-AFA6-F9F3A88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EFA-A63D-42D3-9E86-E2F9D8F1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Immi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Bo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id they come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885 to 1894 28000 moved to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8:03:50Z</dcterms:created>
  <dc:creator>william.boies</dc:creator>
  <dc:description/>
  <dc:language>en-US</dc:language>
  <cp:lastModifiedBy>william.boies</cp:lastModifiedBy>
  <dcterms:modified xsi:type="dcterms:W3CDTF">2011-10-28T18:25:24Z</dcterms:modified>
  <cp:revision>2</cp:revision>
  <dc:subject/>
  <dc:title>Japanese Immigration </dc:title>
</cp:coreProperties>
</file>